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34A-F43F-45A5-A0AE-F51096F7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9E5-BA49-4DA5-940D-59C9E3C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28A-A1FD-4992-BD3A-36155D0F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C03-BCF6-4AC6-8052-E3C44F78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A00-62F8-4A3A-9AA2-73A9D98B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475-90B9-4339-A1C8-C11ADA4B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A06-B1F1-46E4-89B3-753C0618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528-EACC-4B36-9B50-D757C04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7FD-314D-46F0-9226-4489E488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B15-CD56-4894-A16B-B93CA40C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6D9-D4D1-4E58-879F-6B2E72D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A99-C72D-4FB5-8880-6B562F5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92B-E17C-4315-86F1-3E677DD98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229600" cy="173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Qu’est-ce que c’est? (what is 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C’est … (It is a …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2349360"/>
            <a:ext cx="355284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rè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go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trou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0"/>
            <a:ext cx="396252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cah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cray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feut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liv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sty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stylo à bi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taille cray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4724280"/>
            <a:ext cx="43434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une </a:t>
            </a: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=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3600" y="533520"/>
            <a:ext cx="8187480" cy="612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I can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reet someone and ask their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Say hello and goodb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me six objects that I have got and one that I hav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Count to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y the alphab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Spell my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k someone to spell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8480" y="189000"/>
            <a:ext cx="5798160" cy="131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Combien y en a-t-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How many are ther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280" y="1700280"/>
            <a:ext cx="2687760" cy="13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Il y a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There are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3240" y="3141720"/>
            <a:ext cx="3776760" cy="3506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un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cra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deux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all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trois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carav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quatr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an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cinq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sandwi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six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is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sept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gira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4880" y="2565360"/>
            <a:ext cx="4275720" cy="3993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(8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huit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moust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9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neuf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trom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(10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téléph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11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onz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bagu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(12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douze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bicycl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13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treiz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t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(14) </a:t>
            </a:r>
            <a:r>
              <a:rPr b="0" lang="fr-F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orze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15) 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Comic Sans MS"/>
              </a:rPr>
              <a:t>quinz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g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47360" y="765000"/>
            <a:ext cx="6930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Quel âge as-tu? 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old are you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’ai (onze) ans. (I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m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28240" y="1197000"/>
            <a:ext cx="6930000" cy="42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Comment tu t’appel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e m’appelle 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Quel âge as-tu?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old are you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’ai (onze) ans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(I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m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1280" y="228600"/>
            <a:ext cx="418824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bien y en a-t-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y a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8600" y="2666880"/>
            <a:ext cx="33912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Quel âge as-tu?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’ai onze ans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760" y="5334120"/>
            <a:ext cx="4824000" cy="106884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Comment tu t’appel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Je m’appelle 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809880"/>
            <a:ext cx="414864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ça s’écr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B-O-N-B-O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31600" y="1523880"/>
            <a:ext cx="454464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 va très bien mer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9144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320040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724280"/>
            <a:ext cx="457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9680" y="304920"/>
            <a:ext cx="2131560" cy="49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0 = zé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1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2 = d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3 = tr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4 = qu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5 = cin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6 = 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7 = 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8 = h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9 = ne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88680" y="304920"/>
            <a:ext cx="2801880" cy="49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8000"/>
                </a:solidFill>
                <a:uFillTx/>
                <a:latin typeface="Comic Sans MS"/>
              </a:rPr>
              <a:t>10 = 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1 = o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2 = do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3 = tre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4 = quator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5 = qui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6 = se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7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8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9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dix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ne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24480" y="304920"/>
            <a:ext cx="3455640" cy="49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8000"/>
                </a:solidFill>
                <a:uFillTx/>
                <a:latin typeface="Comic Sans MS"/>
              </a:rPr>
              <a:t>20 = vin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1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2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3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tr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4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qu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5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cin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6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7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8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9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ving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ne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2040" y="5486400"/>
            <a:ext cx="335196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8000"/>
                </a:solidFill>
                <a:uFillTx/>
                <a:latin typeface="Comic Sans MS"/>
              </a:rPr>
              <a:t>30 = t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31 = </a:t>
            </a:r>
            <a:r>
              <a:rPr b="0" lang="fr-FR" sz="3200" spc="-1" strike="noStrike">
                <a:solidFill>
                  <a:srgbClr val="008000"/>
                </a:solidFill>
                <a:latin typeface="Comic Sans MS"/>
              </a:rPr>
              <a:t>trent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6800" y="476280"/>
            <a:ext cx="1476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" y="1268280"/>
            <a:ext cx="1428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46080" y="1989000"/>
            <a:ext cx="1153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640" y="620640"/>
            <a:ext cx="994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22920" y="1484280"/>
            <a:ext cx="895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5320" y="2276640"/>
            <a:ext cx="893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1960" y="3716280"/>
            <a:ext cx="1229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26040" y="4435560"/>
            <a:ext cx="1054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6800" y="5156280"/>
            <a:ext cx="2261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4320" y="3860640"/>
            <a:ext cx="1663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8880" y="4581360"/>
            <a:ext cx="21452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7960" y="5229360"/>
            <a:ext cx="2114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89000"/>
            <a:ext cx="2916360" cy="2735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3429000"/>
            <a:ext cx="2879640" cy="27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33360"/>
            <a:ext cx="2843280" cy="2808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3500280"/>
            <a:ext cx="2880000" cy="2737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148428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924000" y="2492280"/>
            <a:ext cx="576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4508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39880" y="1413000"/>
            <a:ext cx="3683520" cy="5212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un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r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rcr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u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endr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4840" y="260280"/>
            <a:ext cx="686160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Les </a:t>
            </a:r>
            <a:r>
              <a:rPr b="0" lang="en-GB" sz="4800" spc="-1" strike="noStrike" u="sng">
                <a:solidFill>
                  <a:srgbClr val="3333cc"/>
                </a:solidFill>
                <a:uFillTx/>
                <a:latin typeface="Comic Sans MS"/>
              </a:rPr>
              <a:t>jours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de la </a:t>
            </a:r>
            <a:r>
              <a:rPr b="0" lang="en-GB" sz="4800" spc="-1" strike="noStrike" u="sng">
                <a:solidFill>
                  <a:srgbClr val="008000"/>
                </a:solidFill>
                <a:uFillTx/>
                <a:latin typeface="Comic Sans MS"/>
              </a:rPr>
              <a:t>sema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41960" y="1773360"/>
            <a:ext cx="773928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Quelle est la date de ton anniversa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240" y="2708280"/>
            <a:ext cx="774072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 anniversaire, c’est le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………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2200" y="189000"/>
            <a:ext cx="61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n anniversaire (my birth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333360"/>
            <a:ext cx="1223640" cy="10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4941720"/>
            <a:ext cx="1224000" cy="10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869000"/>
            <a:ext cx="1224000" cy="1081080"/>
          </a:xfrm>
          <a:prstGeom prst="ellipse">
            <a:avLst/>
          </a:prstGeom>
          <a:solidFill>
            <a:srgbClr val="fb82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349360"/>
            <a:ext cx="1224000" cy="10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2349360"/>
            <a:ext cx="122400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421000"/>
            <a:ext cx="1224000" cy="1081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2492280"/>
            <a:ext cx="122400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333360"/>
            <a:ext cx="1224000" cy="1081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333360"/>
            <a:ext cx="1224000" cy="10810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404640"/>
            <a:ext cx="1223640" cy="1081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84760" y="5734080"/>
            <a:ext cx="1017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6720" y="4508640"/>
            <a:ext cx="1211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4200" y="5229360"/>
            <a:ext cx="932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63640" y="5300640"/>
            <a:ext cx="1326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29000" y="4076640"/>
            <a:ext cx="898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9440" y="4076640"/>
            <a:ext cx="1020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7640" y="6021360"/>
            <a:ext cx="12474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5920" y="4149720"/>
            <a:ext cx="1555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7000" y="6093000"/>
            <a:ext cx="1623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5560" y="5084640"/>
            <a:ext cx="95184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880" y="134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4280" y="134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6640" y="1341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85720" y="126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2640" y="342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8640" y="3284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5360" y="3357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85720" y="3284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8280" y="58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48160" y="5950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189000"/>
            <a:ext cx="169200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18900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18900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20500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9736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220500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4869000"/>
            <a:ext cx="169200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133720"/>
            <a:ext cx="1692360" cy="180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205000"/>
            <a:ext cx="16923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6358E-006 L -0.3224 -0.67214 E">
                                      <p:cBhvr>
                                        <p:cTn id="60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21965E-006 L 0.06302 -0.74474 E">
                                      <p:cBhvr>
                                        <p:cTn id="61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104E-006 L 0.10521 -0.79792 E">
                                      <p:cBhvr>
                                        <p:cTn id="61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79191E-006 L 0.23333 -0.49364 E">
                                      <p:cBhvr>
                                        <p:cTn id="62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0116E-006 L -0.61788 -0.35745 E">
                                      <p:cBhvr>
                                        <p:cTn id="62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6532E-006 L -0.11146 -0.27352 E">
                                      <p:cBhvr>
                                        <p:cTn id="62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79191E-006 L 0.40087 -0.2 E">
                                      <p:cBhvr>
                                        <p:cTn id="63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1387E-006 L 0.20955 -0.48324 E">
                                      <p:cBhvr>
                                        <p:cTn id="6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93 L -0.66268 0.14589 E">
                                      <p:cBhvr>
                                        <p:cTn id="64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1214E-006 L 0.31736 -0.01133 E">
                                      <p:cBhvr>
                                        <p:cTn id="64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360" y="811080"/>
            <a:ext cx="835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s-t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Have you g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…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i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j’a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es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 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je n’ai p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… (No,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 haven’t g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7440" y="3860640"/>
            <a:ext cx="7857000" cy="2531160"/>
          </a:xfrm>
          <a:prstGeom prst="rect">
            <a:avLst/>
          </a:prstGeom>
          <a:solidFill>
            <a:srgbClr val="ff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djectives add an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femin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less they already end in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livre v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aison vert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480" y="549360"/>
            <a:ext cx="7904160" cy="2531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French the word for the colour 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 the word it describ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crayon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roug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livre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le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2349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852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13160" y="2421000"/>
            <a:ext cx="3377520" cy="581400"/>
          </a:xfrm>
          <a:prstGeom prst="rect">
            <a:avLst/>
          </a:prstGeom>
          <a:solidFill>
            <a:srgbClr val="ff99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Je m ’appelle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200" y="4292640"/>
            <a:ext cx="290808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J ’ai …… ans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1320" y="3357720"/>
            <a:ext cx="2574360" cy="581400"/>
          </a:xfrm>
          <a:prstGeom prst="rect">
            <a:avLst/>
          </a:prstGeom>
          <a:solidFill>
            <a:srgbClr val="cc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s’écr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5760" y="148428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360" y="602136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voi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240" y="5229360"/>
            <a:ext cx="774072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 anniversaire, c’est le </a:t>
            </a: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……….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33360"/>
            <a:ext cx="82641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n you introduce yourself in Fre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0640" y="241200"/>
            <a:ext cx="78372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B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D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 E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F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cc0099"/>
                </a:solidFill>
                <a:latin typeface="Comic Sans MS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H I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O 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Q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U 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8880" y="179280"/>
            <a:ext cx="7809840" cy="667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A = un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âne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/donk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B =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une balein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 / a wh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C = un crayon / a penc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D = un dauphin / a dolph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E =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 écureuil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 / a squirr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F =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une ferme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 / a fa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G =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e grenouille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 / fro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H = un hamster/ hams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I = un igloo / iglo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41800" y="0"/>
            <a:ext cx="8113320" cy="667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J =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 jouet / a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t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K = un koala / a koa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L = un livre / a b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M = une maison / a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N = un nuage / a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O = une orange / an or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P = un pingouin / a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pengu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Q = une quille / a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ski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R = une règle / a 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rul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" y="404640"/>
            <a:ext cx="9167760" cy="594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S = un serpent / a sna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T =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une télé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= l’univers</a:t>
            </a: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 / the unive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V = un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vélo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/ a b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W = un wagon / a train carri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X = un xyloph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Y = un yac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Z = un </a:t>
            </a:r>
            <a:r>
              <a:rPr b="0" lang="fr-FR" sz="4800" spc="-1" strike="noStrike">
                <a:solidFill>
                  <a:srgbClr val="ff0000"/>
                </a:solidFill>
                <a:latin typeface="Comic Sans MS"/>
              </a:rPr>
              <a:t>zèbre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/ a z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371600"/>
            <a:ext cx="550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trous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sty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règ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ball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cah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liv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un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gom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560" y="304920"/>
            <a:ext cx="62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3333cc"/>
                </a:solidFill>
                <a:uFillTx/>
                <a:latin typeface="Comic Sans MS"/>
              </a:rPr>
              <a:t>masculin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 ou </a:t>
            </a:r>
            <a:r>
              <a:rPr b="0" lang="fr-FR" sz="4800" spc="-1" strike="noStrike" u="sng">
                <a:solidFill>
                  <a:srgbClr val="cc0099"/>
                </a:solidFill>
                <a:uFillTx/>
                <a:latin typeface="Comic Sans MS"/>
              </a:rPr>
              <a:t>féminin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6160" y="838080"/>
            <a:ext cx="7134120" cy="551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Comment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tu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8000"/>
                </a:solidFill>
                <a:latin typeface="Comic Sans MS"/>
              </a:rPr>
              <a:t>t’appelles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J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8000"/>
                </a:solidFill>
                <a:latin typeface="Comic Sans MS"/>
              </a:rPr>
              <a:t>m’appelle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Comment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ça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800" spc="-1" strike="noStrike">
                <a:solidFill>
                  <a:srgbClr val="008000"/>
                </a:solidFill>
                <a:latin typeface="Comic Sans MS"/>
              </a:rPr>
              <a:t>s’écrit</a:t>
            </a:r>
            <a:r>
              <a:rPr b="0" lang="fr-FR" sz="4800" spc="-1" strike="noStrike">
                <a:solidFill>
                  <a:srgbClr val="cc0099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……………</a:t>
            </a:r>
            <a:r>
              <a:rPr b="0" lang="fr-FR" sz="4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35040" y="1397160"/>
            <a:ext cx="7984800" cy="357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st yoursel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managed well write in your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jot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 can … (what you can 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got it wro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an you do to make it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10:09Z</dcterms:created>
  <dc:creator>drew</dc:creator>
  <dc:description/>
  <dc:language>en-US</dc:language>
  <cp:lastModifiedBy>caroline</cp:lastModifiedBy>
  <dcterms:modified xsi:type="dcterms:W3CDTF">2006-09-27T22:40:22Z</dcterms:modified>
  <cp:revision>19</cp:revision>
  <dc:subject/>
  <dc:title>No Slide Title</dc:title>
</cp:coreProperties>
</file>